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C29D-F729-4467-8663-ED447A33F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7D7C-854C-46F8-905B-244A23E1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09D0-4CC6-4619-B580-DAE813251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5C63-980A-4C4D-BE12-7AD35660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90E3-FDB3-4669-AA51-6E61E7DB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B920-BD85-4C25-A7ED-F4DBBFAB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3E5E-C499-4995-9EB1-65B53265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3923-F593-4C5A-9BAF-47C921EA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E424-20F7-41C7-B8AB-B0B08061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7645-3B37-4777-B0DE-29D47135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CA83-F5AF-4B34-8101-53E3DB2A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6D70-0FAC-4A1E-B473-17F7BF6E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F1B2-FB3E-4667-838A-1B0FEBF8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676F-3398-48BE-9EEE-7D426E75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EFB0-D39C-428F-9A0B-5AABB1CC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066F-9FC5-4B97-A08B-FCE9A794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B60D-8568-4B69-A682-4C61DA68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83091-9AFD-4550-989B-1870F498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1725F-DE01-475E-9FCC-E1342D29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3BBF1-DD9B-42D9-A9AA-A93EFAEA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16309-D052-4BFF-8C93-A6F75510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F12B4-6ECF-4443-B3F8-E0482745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70A5-43D1-4E3A-B1F5-CB0193F1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7040E-5BD1-4303-8EF7-54E55171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39269-2331-4864-B025-985A0FCB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718FB-D65A-42B9-8F58-AAFF322F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17C74-13AD-4CE2-A943-67FE2347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ECB98-AE60-417D-A16D-68CB7CF7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DCA6E-7A64-4D5F-A190-4CDD17409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09DEF-8FD8-4D5C-AEB1-0686E1439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D54C2-B9AB-4DE2-9053-B85196AD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C386D-225B-421A-A3E5-368E7E65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92B6D-6B47-4E2A-A17C-73F0632E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913A-0D18-4084-BBFB-5AED350E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5BD37-9146-4BD4-B0F2-97D85E97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7F14E-0408-4085-8F65-B78B24E0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7E7DE-DE16-43C2-A398-EA8D20D9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4413E-CA80-4771-9546-7AB5065F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8D8ED-95AC-47A4-A361-BC3E6D20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8D3BA-0189-402F-8DEC-F3FAEE8F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E2BFB-6BD4-4DA1-8922-F1971F48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4B360-1CCD-4BFD-8B72-9CB95427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C5B16-4B4D-4CF7-94A7-6D255C7C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D294-4486-4153-A6E1-AC7CE58B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4E0C-322F-4A13-B334-90A01F01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9B43-C571-4D94-AD6B-A1E5EC72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6424-00F7-4A14-BE86-59526DE6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A8D3-743F-4585-96B7-50C104E7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BB77-68BF-4F69-94AB-7511A4DA316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5F33-7EA9-4E47-B5E6-AFE093D6654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B1E0-A66D-4A1E-8C82-A81551E61EF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50E3-5C84-4A43-9653-CA26498868F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Documents and Settings\Liz\Local Settings\Temporary Internet Files\Content.IE5\Z37DDQH5\MCj03970480000[1].wmf"/>
          <p:cNvPicPr/>
          <p:nvPr/>
        </p:nvPicPr>
        <p:blipFill>
          <a:blip r:embed="rId1"/>
          <a:stretch/>
        </p:blipFill>
        <p:spPr>
          <a:xfrm>
            <a:off x="228600" y="2133720"/>
            <a:ext cx="4038480" cy="40305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"/>
          <p:cNvPicPr/>
          <p:nvPr/>
        </p:nvPicPr>
        <p:blipFill>
          <a:blip r:embed="rId2"/>
          <a:stretch/>
        </p:blipFill>
        <p:spPr>
          <a:xfrm>
            <a:off x="6172200" y="228600"/>
            <a:ext cx="2646360" cy="4986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1219320" y="6400800"/>
            <a:ext cx="70228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By Liz LaRosa </a:t>
            </a:r>
            <a:r>
              <a:rPr b="0" lang="en-US" sz="1300" spc="-1" strike="noStrike" u="sng">
                <a:solidFill>
                  <a:srgbClr val="e2d700"/>
                </a:solidFill>
                <a:uFillTx/>
                <a:latin typeface="Arial"/>
              </a:rPr>
              <a:t>http://www.middleschoolscience.com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1300" spc="-1" strike="noStrike" u="sng">
                <a:solidFill>
                  <a:srgbClr val="e2d700"/>
                </a:solidFill>
                <a:uFillTx/>
                <a:latin typeface="Arial"/>
              </a:rPr>
              <a:t>http://sciencespot.net/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0"/>
          <p:cNvSpPr/>
          <p:nvPr/>
        </p:nvSpPr>
        <p:spPr>
          <a:xfrm>
            <a:off x="838080" y="83808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Volu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4191120" y="49528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nap ITC"/>
              </a:rPr>
              <a:t>Challenge #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Hudson"/>
              </a:rPr>
              <a:t>Volume of Irregular Objec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76160"/>
            <a:ext cx="510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rock was placed into a graduated cylinder containing 100 milliliters of water. The diagram to the right illustrates the new level of wat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is the volume of the rock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A)  41 m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B)  141 m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C)  42 m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D)  142 m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5562720" y="1447920"/>
            <a:ext cx="3176640" cy="43369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7"/>
          <p:cNvSpPr/>
          <p:nvPr/>
        </p:nvSpPr>
        <p:spPr>
          <a:xfrm>
            <a:off x="762120" y="6172200"/>
            <a:ext cx="761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ified from NY State Regents Exam:  Biology Jan. 24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Content Placeholder 2"/>
          <p:cNvSpPr/>
          <p:nvPr/>
        </p:nvSpPr>
        <p:spPr>
          <a:xfrm>
            <a:off x="457200" y="1676520"/>
            <a:ext cx="5105520" cy="4190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rock was placed into a graduated cylinder containing 100 milliliters of water. The diagram to the right illustrates the new level of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is the volume of the roc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C)  42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2 mL (end) – 100 mL (start) = 42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line = 2 mL incre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562720" y="1447920"/>
            <a:ext cx="3176640" cy="4336920"/>
          </a:xfrm>
          <a:prstGeom prst="rect">
            <a:avLst/>
          </a:prstGeom>
          <a:ln w="0">
            <a:noFill/>
          </a:ln>
        </p:spPr>
      </p:pic>
      <p:sp>
        <p:nvSpPr>
          <p:cNvPr id="206" name="TextBox 4"/>
          <p:cNvSpPr/>
          <p:nvPr/>
        </p:nvSpPr>
        <p:spPr>
          <a:xfrm>
            <a:off x="762120" y="6172200"/>
            <a:ext cx="761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ified from NY State Regents Exam:  Biology Jan. 24, 2001 question # 1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Hudson"/>
              </a:rPr>
              <a:t>Volume of Irregular Object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8T14:12:40Z</dcterms:created>
  <dc:creator>Liz</dc:creator>
  <dc:description/>
  <dc:language>en-US</dc:language>
  <cp:lastModifiedBy>Liz</cp:lastModifiedBy>
  <dcterms:modified xsi:type="dcterms:W3CDTF">2008-07-06T14:48:37Z</dcterms:modified>
  <cp:revision>14</cp:revision>
  <dc:subject/>
  <dc:title>Slide 1</dc:title>
</cp:coreProperties>
</file>